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B88-C3DB-45C2-A152-228BBAB4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175-2C06-4A14-B70F-75CA6437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0C6-EA4E-4092-A952-C827E89C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548-B45B-4734-A5D3-0DE4AA61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75D-C4CB-485A-8EB8-A20D5821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B71-E4E1-4A31-B285-73EB019A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2CE-0892-4741-8136-F446D8B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602-A321-4592-A1EF-C8F7F363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733-8659-420F-B456-1FC05A4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F3D-A13A-44B8-8F00-FDEBC44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D8C-E883-489E-B223-ECB8C1E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D0D-DCDB-45E8-B68F-BA5E0D6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1DBB-6059-41DB-8242-5DE04BAC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8-6 –The g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creasing pressure affects the volume of a contained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1523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ow?  As pressure of a gas increases, the volume decreases and vice versa (if temp is constant, reme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yle’s law: Pressure and Vol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for a given mass of gas at a constant temp, the volume of the gas varies inversely wit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029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thematical expression of Boyle’s la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276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 an inverse relationship, the product of the two variable quantities is constant. Hu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roduct of pressure and volume at any 2 sets of pressure and volume conditions is always constant at a given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aph of inverse relationship always a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versegraph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867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. 418 Figure 14.8 Interpreting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295280"/>
            <a:ext cx="7391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volume is 2.0 L, what is the pressure?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the pressure be if the volume were increased to 3.0 L (estimate)? 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shape of the graph, describe the general pressure-volum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952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problem 14.1 pg 4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rles’s Law: Temp an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s the temp of an enclosed gas increases, the volume increases, if the pressur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362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volume of a fixed mass of gas is directly proportional to its Kelvin temp IF the pressure i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3200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09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atio of the variables is always a constant in a direc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aph is always a straight line (because relationshi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opor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717d3f69-1755-45fd-ae8f-d7718a399b9e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5610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ample problem 14.2 pg. 4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ay-Lussac’s Law:  Pressure an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s the temp of an enclosed gas increases, the pressure increases IF the volume i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819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essure of a gas is directly proportional to the Kelvin temp if the volume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657600"/>
            <a:ext cx="495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problem 14.3 page 4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3:52:36Z</dcterms:created>
  <dc:creator>jpak</dc:creator>
  <dc:description/>
  <dc:language>en-US</dc:language>
  <cp:lastModifiedBy>Farwell Area Schools</cp:lastModifiedBy>
  <dcterms:modified xsi:type="dcterms:W3CDTF">2008-01-24T18:51:54Z</dcterms:modified>
  <cp:revision>8</cp:revision>
  <dc:subject/>
  <dc:title>Note Guide 8-6 –The gas laws</dc:title>
</cp:coreProperties>
</file>